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17A-7E41-47CF-8C83-7B67F0D3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817-696A-456A-9D8B-17DCD7D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8C0-5719-42E9-9A65-8FCC21F7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555-0563-4FFF-A796-633AF8C9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6E0-492E-4BD2-A37B-59174619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6D1-453E-484A-889B-F69036E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55B-6C91-487D-9FFF-1FFF199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34C-9370-4600-952D-5F91E40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64A-F553-4799-AC94-51ACAB04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349-7929-47C0-95CD-75A4E8B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BD8-E832-4AD8-8F80-21631E0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7AB-F14D-4731-9C6A-F2446C8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F704-1A1C-4CAD-B5F1-86D73B3221D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ephe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γαρ ἐστιν ὁ λογος δια Ἠσαϊου του προφητου λεγοντε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 ἐν ἑαυτοις∙ Πατερα ἐχομεν τον Ἀβρααμ. λεγω γαρ ὑμιν ὁτι δυνατι 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ars of the sinners do not hear the seed which the sower so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1.7-1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ου ὀπίσω μου,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o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ὗ οὐκ εἰμὶ ἱκαν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or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ύψ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υπτ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nd dow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ῦσαι τὸν ἱμάν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ra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ῶν ὑποδημά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andal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ἐγὼ ἐβάπτισα ὑμᾶς ὕδ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zaret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ς τὸν Ἰορδάν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rd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ὸ Ἰωάνν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ing spl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ταβαῖνον εἰς αὐτόν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8-09-27T19:57:42Z</dcterms:modified>
  <cp:revision>21</cp:revision>
  <dc:subject/>
  <dc:title>Slide 1</dc:title>
</cp:coreProperties>
</file>